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76BF-57A6-489C-A0E9-2041BE0A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54B0-0DEE-4E76-B722-F150D617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C3C7-A0BF-4FE3-A812-4CAB7D459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A698-05C9-49DD-8786-0D61BE9B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854-594D-4407-A54E-2BE7A592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412-D134-4BF9-A4FF-7CFE6747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2DC-5F9F-44E1-A453-38B473B1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2B6D-738B-48CD-9EE2-1B1AB313B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D9DD-9B86-4790-928A-73445965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8787-4B6E-44CF-A1FC-99CB87DA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0F0A-BBD4-44D1-8CB1-EDA3D04A7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F31F-BF8B-47DB-AD5F-DAF5E4B8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A97F-29B0-4190-9739-767FB00604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19160" y="733320"/>
            <a:ext cx="76564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00120" y="206280"/>
            <a:ext cx="660096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26920" y="-11160"/>
            <a:ext cx="6959880" cy="63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12T12:22:24Z</dcterms:created>
  <dc:creator>ir014928tb</dc:creator>
  <dc:description/>
  <dc:language>en-US</dc:language>
  <cp:lastModifiedBy>ir014928tb</cp:lastModifiedBy>
  <dcterms:modified xsi:type="dcterms:W3CDTF">2016-09-12T12:22:48Z</dcterms:modified>
  <cp:revision>1</cp:revision>
  <dc:subject/>
  <dc:title>Diapositiva 1</dc:title>
</cp:coreProperties>
</file>